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4E6-A57F-486D-83C2-53B70AB4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44C-D8ED-499D-9826-C2E7F541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DDC-A0B8-41BB-BE01-2CE0F284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013-172C-4476-81DD-FCFC3DA0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4B7-F62B-42C8-8080-E470F9D5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5B0-47BD-447A-9596-7C7986E1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1CD-614D-4607-A61D-3DFACBC9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8EC-E9CC-4C17-A74C-D061BAB6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D8E-0D77-4582-8558-C71B5B04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1A4-0E0A-4933-9B57-3A2F7A43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91C-9150-4FBD-AF88-5383B5A8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061-7CCE-4732-ABE0-D30B2CD8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0141-33FE-4E67-918F-454208692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ghal 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762120" y="990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ielle Despain,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ap of India"/>
          <p:cNvPicPr/>
          <p:nvPr/>
        </p:nvPicPr>
        <p:blipFill>
          <a:blip r:embed="rId1"/>
          <a:stretch/>
        </p:blipFill>
        <p:spPr>
          <a:xfrm>
            <a:off x="304920" y="2054160"/>
            <a:ext cx="3657600" cy="4422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www.sscnet.ucla.edu/southasia/History/map.gif"/>
          <p:cNvPicPr/>
          <p:nvPr/>
        </p:nvPicPr>
        <p:blipFill>
          <a:blip r:embed="rId2"/>
          <a:stretch/>
        </p:blipFill>
        <p:spPr>
          <a:xfrm>
            <a:off x="5067360" y="0"/>
            <a:ext cx="407664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7" descr="http://www.islamicart.com/images/space.gif"/>
          <p:cNvPicPr/>
          <p:nvPr/>
        </p:nvPicPr>
        <p:blipFill>
          <a:blip r:embed="rId1"/>
          <a:stretch/>
        </p:blipFill>
        <p:spPr>
          <a:xfrm>
            <a:off x="0" y="0"/>
            <a:ext cx="9360" cy="190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ughal Family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240" y="14479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ab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indal Mirza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lrukh Beg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mran Mir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ari Mir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Arial"/>
              </a:rPr>
              <a:t>Humay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Arial"/>
              </a:rPr>
              <a:t>Ak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Ak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Ha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hanzada Khan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 Mur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yal Shakarunni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um 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u Beg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Jahan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Jahan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tan Nisar Beg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hurasw Parv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har BanuBeg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rayar Jaha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Shahja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tent Placeholder 40"/>
          <p:cNvSpPr/>
          <p:nvPr/>
        </p:nvSpPr>
        <p:spPr>
          <a:xfrm>
            <a:off x="3886200" y="137160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Shahjah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ra Shiko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h Shuj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hanara Begu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wshanara Beg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rad Bakhs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urangzi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65" descr="The Emperor Jahangir"/>
          <p:cNvPicPr/>
          <p:nvPr/>
        </p:nvPicPr>
        <p:blipFill>
          <a:blip r:embed="rId2"/>
          <a:stretch/>
        </p:blipFill>
        <p:spPr>
          <a:xfrm>
            <a:off x="7238880" y="1219320"/>
            <a:ext cx="1400400" cy="2222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7" descr="The Emperor Shah Jahan"/>
          <p:cNvPicPr/>
          <p:nvPr/>
        </p:nvPicPr>
        <p:blipFill>
          <a:blip r:embed="rId3"/>
          <a:stretch/>
        </p:blipFill>
        <p:spPr>
          <a:xfrm>
            <a:off x="2971800" y="3200400"/>
            <a:ext cx="1600200" cy="22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9" descr="The Emperor Aurangzib"/>
          <p:cNvPicPr/>
          <p:nvPr/>
        </p:nvPicPr>
        <p:blipFill>
          <a:blip r:embed="rId4"/>
          <a:stretch/>
        </p:blipFill>
        <p:spPr>
          <a:xfrm>
            <a:off x="5410080" y="3809880"/>
            <a:ext cx="23814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lim where at the top of the social ladder (Mr. Di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ign of Babur, 1526-15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ks were patrons of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</a:rPr>
              <a:t>art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and educ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often were poets in Persian or Chaghatai Turkish; amateur painters or calligraphers; and singers or instrumentalists(Khalid Mubiree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 Aurangzeb the Mughal empire reached its greatest extent, yet the emperor's puritanical outlook and his costly wars meant that the generous support given by his predecessors t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learnin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and th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arts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was almost completely withdrawn(Khalid Mubiree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The Mughal forces capturing the Deccan"/>
          <p:cNvPicPr/>
          <p:nvPr/>
        </p:nvPicPr>
        <p:blipFill>
          <a:blip r:embed="rId1"/>
          <a:stretch/>
        </p:blipFill>
        <p:spPr>
          <a:xfrm>
            <a:off x="6553080" y="1905120"/>
            <a:ext cx="2381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 was at the heart of the Islamic Empire (Khalid Mubire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ghals provided the setting for a brilliant court and a vigorous cultural life (Khalid Mubire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ghals lived in India from 1526 to 1858 AD (Khalid Mubire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y was the wealthiest, and longest-lasting Muslim dynasty to rule India (Khalid Mubire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d by able Muslim rulers who came from the present day Uzbekist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ign of Humayun, 1530-155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bur's eldest son and successor, Humayun, was 22 years old when his father passed away (Khalid Mubireek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Golden Age"/>
          <p:cNvPicPr/>
          <p:nvPr/>
        </p:nvPicPr>
        <p:blipFill>
          <a:blip r:embed="rId1"/>
          <a:stretch/>
        </p:blipFill>
        <p:spPr>
          <a:xfrm>
            <a:off x="6477120" y="1600200"/>
            <a:ext cx="23810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bar’s efforts to unify his people resulted in a tolerant religious poli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bar had an inquisitive mind, and he turned to the ulama, established a religious assembly hall to hold discussions about Isl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much consideration Akbar began to believe that no single region including Islam ,held all the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Fatehpur Sikri"/>
          <p:cNvPicPr/>
          <p:nvPr/>
        </p:nvPicPr>
        <p:blipFill>
          <a:blip r:embed="rId1"/>
          <a:stretch/>
        </p:blipFill>
        <p:spPr>
          <a:xfrm>
            <a:off x="5715000" y="1295280"/>
            <a:ext cx="3220920" cy="18687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30240" y="-1576440"/>
            <a:ext cx="398124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0240" y="-1576440"/>
            <a:ext cx="398124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e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f new was of doing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of making things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e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: painting sculptures ec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The Emperor Akbar"/>
          <p:cNvPicPr/>
          <p:nvPr/>
        </p:nvPicPr>
        <p:blipFill>
          <a:blip r:embed="rId1"/>
          <a:stretch/>
        </p:blipFill>
        <p:spPr>
          <a:xfrm>
            <a:off x="5867280" y="2057400"/>
            <a:ext cx="3049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5334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y of building with different type of hand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ns and way of fighting batt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an trade clo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learn and write knowledge be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y of creating paint to make it brigh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Qutb Minar"/>
          <p:cNvPicPr/>
          <p:nvPr/>
        </p:nvPicPr>
        <p:blipFill>
          <a:blip r:embed="rId1"/>
          <a:stretch/>
        </p:blipFill>
        <p:spPr>
          <a:xfrm>
            <a:off x="5867280" y="1905120"/>
            <a:ext cx="259236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urangzeb rule art and learning were on the way side and no new learning or new art work was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Babur rule there was much learning and art work being created or discove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ng of art and knowledge was one of may form of trade during this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Eurpoean envoys"/>
          <p:cNvPicPr/>
          <p:nvPr/>
        </p:nvPicPr>
        <p:blipFill>
          <a:blip r:embed="rId1"/>
          <a:stretch/>
        </p:blipFill>
        <p:spPr>
          <a:xfrm>
            <a:off x="3124080" y="3657600"/>
            <a:ext cx="48006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slamic architectu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Khalid Mubireek, 1995. Web. &lt;http://www.islamicart.com/library/empires/india/&gt;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he Mughal Empi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History politics. Web. 29 Sept. 09. &lt;http://www.sscnet.ucla.edu/southasia/History/Mughals/mughals.html&gt;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ligon ethnics in islam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BBC. Web. 29 Sept. 09. &lt;http://www.bbc.co.uk/religion/religions/islam/history/mughalempire_1.shtml&gt;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ww.iloveindia.com/history/medieval-india/mughal-empire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ww.islamicart.com/library/empires/india/mughal_lin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 Asian text book page 3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34:30Z</dcterms:created>
  <dc:creator>Douglas County School District Re-1</dc:creator>
  <dc:description/>
  <dc:language>en-US</dc:language>
  <cp:lastModifiedBy>Douglas County School District RE-1</cp:lastModifiedBy>
  <dcterms:modified xsi:type="dcterms:W3CDTF">2009-10-06T20:47:00Z</dcterms:modified>
  <cp:revision>28</cp:revision>
  <dc:subject/>
  <dc:title>Mughal India</dc:title>
</cp:coreProperties>
</file>